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7FD-16BF-45B6-B7B8-B49DE3F5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9F3-6216-44DA-A497-CAB196E9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99B-88B2-43F7-882A-F792FEB6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8FE-22F8-4ACD-B0BC-B53980F6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20BD-CBA8-4817-869F-47EF2CEB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282C-7A2E-4F6F-B22B-3D7A3CD8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2D8C-2943-4C89-AA46-1255A780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A741-7CA7-4723-BFDF-D009065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E154-4FC1-470C-AD97-E015AD46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EDC2-E5F0-469C-ACC6-32162C4F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E2C3-53BD-46C4-8283-FD4FD01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23F-5AF4-44A6-A722-B01D9097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7BE7-D43B-4C0F-A41E-C1C6806B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231-68CB-4D33-843F-339599E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D5AB-06D5-4287-A813-BE67D186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9D46-372C-4346-854D-0698324D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52FD-E3D1-4492-A11F-E497726A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65B-B044-43C0-A590-259A1BAF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34B-B363-4BE4-B823-7FBD8E48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71B-6A03-44D4-AC6A-FCA12A7C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A3E-8B1A-4DD2-96F2-28B254AE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592-C9A0-43B2-9BB5-F66C5CD8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492-716F-427A-9D96-8C42180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E8F-6B75-49B6-96BD-56653785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0CE2-6FA3-46D7-8C55-CE37BDD91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B7FF-38E7-4909-B003-6FCBCC9A8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ade the Korean war different from the other w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de the Korean War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orean war was a fight for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Union wanted communism and the U.S wanted democ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s directly back to the Cold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choice was 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came war from the North Kor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ar carried over from World war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first war that “Status Quo” was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war that politicians ran the war not the gene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U.S wanted was a non-communist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orean war was a mile stone in wars in that it was the first war that didn’t result in a win, lose si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3:50:58Z</dcterms:created>
  <dc:creator>PA Department of Education</dc:creator>
  <dc:description/>
  <dc:language>en-US</dc:language>
  <cp:lastModifiedBy>PA Department of Education</cp:lastModifiedBy>
  <dcterms:modified xsi:type="dcterms:W3CDTF">2008-05-29T14:19:01Z</dcterms:modified>
  <cp:revision>2</cp:revision>
  <dc:subject/>
  <dc:title>Korean War</dc:title>
</cp:coreProperties>
</file>